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849195"/>
        <c:axId val="44289067"/>
      </c:barChart>
      <c:catAx>
        <c:axId val="178491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89067"/>
        <c:crosses val="autoZero"/>
        <c:auto val="1"/>
        <c:lblAlgn val="ctr"/>
        <c:lblOffset val="100"/>
        <c:noMultiLvlLbl val="0"/>
      </c:catAx>
      <c:valAx>
        <c:axId val="442890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491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5B58-CDC2-480F-B306-25D192B6E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2498-884D-4433-B4B1-B5EE566B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F7FC-6069-4D41-9A1F-FC94D5160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45AE-CA2F-45A2-90C9-1DB7468F0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2FFE-708D-417F-AED0-648D7BB5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7B4B-74C0-49F6-A962-C9571E92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176D-A643-4F8C-928D-81DE42E7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62BE-9651-4A4E-97C3-DA6FEE7A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2B3F-3DA9-45FF-A649-09A9A033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D7D6-B126-42D2-84E8-F44E5203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D475-EB72-4122-87FB-C9ED1819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712D-3536-4C59-8F8D-68D7AEE9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958A1-0EC2-4E7D-8B39-713A6D018F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