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33022"/>
        <c:axId val="98592824"/>
      </c:barChart>
      <c:catAx>
        <c:axId val="89433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92824"/>
        <c:crosses val="autoZero"/>
        <c:auto val="1"/>
        <c:lblAlgn val="ctr"/>
        <c:lblOffset val="100"/>
        <c:noMultiLvlLbl val="0"/>
      </c:catAx>
      <c:valAx>
        <c:axId val="98592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33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CB8-EA22-485B-A382-D371950E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ED5-F8F9-45ED-830E-1064204B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312-A888-4B10-B442-015BC928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4E7-404F-4651-9F6F-1B5158B4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BEF-D572-4314-BA07-6EB281B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836-A37A-4C16-950E-D6B37D54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057-F15C-4066-AD25-9A493DDE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1DC-02B1-4856-BD10-3C5FABCC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E76-BFD7-40EB-A4BA-BDB25EA4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5F5-2316-4F99-93B1-C3717E5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260-D9D3-40A3-8CF6-F01AC2F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BA0-956F-4CFB-880F-43F048A6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5758D-6544-48DF-AD9B-9437E73872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