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97429"/>
        <c:axId val="68279436"/>
      </c:barChart>
      <c:catAx>
        <c:axId val="88397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9436"/>
        <c:crosses val="autoZero"/>
        <c:auto val="1"/>
        <c:lblAlgn val="ctr"/>
        <c:lblOffset val="100"/>
        <c:noMultiLvlLbl val="0"/>
      </c:catAx>
      <c:valAx>
        <c:axId val="68279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7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631-CCAE-42B2-A864-34DE10E8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D06-ACE4-4EBA-AD71-2844B78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595-056B-466A-B0DA-BAB48574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304-EB69-48A0-8B1C-110DA615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F43-8382-4B96-A771-2CF8EDB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63F-13AD-4869-B884-7D6C788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14A-1C39-4B39-9788-69AD5AD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04F-4343-40C9-BAA8-9730F03A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E67-A4EB-420E-93A2-401EC74D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8FF-E71F-42A1-9C8C-81E2E2F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F28-C70C-40DA-AE2C-C96C07A9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3A2-7328-487F-A73B-06A6EAA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ACAAA-3EC3-46D2-B889-9ADFD7FA2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