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46526"/>
        <c:axId val="48299461"/>
      </c:barChart>
      <c:catAx>
        <c:axId val="92446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9461"/>
        <c:crosses val="autoZero"/>
        <c:auto val="1"/>
        <c:lblAlgn val="ctr"/>
        <c:lblOffset val="100"/>
        <c:noMultiLvlLbl val="0"/>
      </c:catAx>
      <c:valAx>
        <c:axId val="48299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6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77D-5E14-4294-ADB4-018E1B77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F57-DA8E-4E01-BA17-A681C71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4CF-D6CD-4872-9BCF-9621346C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B53-C81C-4753-866A-80AD98BD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99C-674A-494D-A707-AAB2C77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CAA-EAD5-4F7E-AECA-AC91303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608-323A-4840-80D0-843913C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9F7-E02A-4A70-BF9D-4CE3503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019-4507-4BD1-9AB5-9952C4B2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A3E-C711-4E6D-8D38-29D2C62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34C-839F-490C-BCD4-E52267A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514-2B0B-45AB-A373-784C801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46F3-E3E3-40B9-8BF5-FCA5E44FFA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