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6965548"/>
        <c:axId val="62682013"/>
      </c:barChart>
      <c:catAx>
        <c:axId val="8696554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2682013"/>
        <c:crosses val="autoZero"/>
        <c:auto val="1"/>
        <c:lblAlgn val="ctr"/>
        <c:lblOffset val="100"/>
        <c:noMultiLvlLbl val="0"/>
      </c:catAx>
      <c:valAx>
        <c:axId val="62682013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696554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F4015-0163-4838-82D6-E430CF0C85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5E1F5-F98B-4295-B088-D9C74252CE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5B791F-FA98-40B8-B27C-107CBFCF29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F4C26-B704-4D0C-94A3-8BC38DEF69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10C28-D81D-4001-A865-A8835CD504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D48C0-06AE-4A6B-ABC0-B98BB1247F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C6DFD3-51CC-4760-A6B9-6A3EDFCAFC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026A0-DF1E-43FF-8CD6-53760AF528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E3329-6539-420F-98C7-86301D0A5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14463-C042-4E05-8AD3-412FB2014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8EFF-F796-47A8-8F44-262D50707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7D624-5DD1-49A1-96BB-DEBB4A626E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268CF6A-679A-40E3-BBE2-7BF2D47FA7CB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