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C0137-42EF-433F-A5EA-DD13513F6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209D6-6777-4190-9626-51DBB8F605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8B8BD-378E-46FC-8C4C-8177180DC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248AC-6F8A-4F20-B06E-DF31F2BCE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88D9A-1F0B-4FE3-9636-87E28FEA5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4C7B1-C99A-4D28-A885-F6F9B85285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5102A-7FBC-45F8-811F-E76F23BC9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094CB-E006-4B45-B031-0BD831505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496E2-A56E-4AB2-9A2E-31866397C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59FD2-B7ED-4E0B-90DF-9B39DB3FF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6ACBD-0A0B-460C-9A86-43C536793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39DC4-6A5C-48FD-B17A-F7BFD1FE3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8000"/>
          </a:bodyPr>
          <a:p>
            <a:pPr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>
              <a:spcBef>
                <a:spcPts val="799"/>
              </a:spcBef>
              <a:buClr>
                <a:srgbClr val="000000"/>
              </a:buClr>
              <a:buFont typeface="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6960" y="6247440"/>
            <a:ext cx="289800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5960" y="6247440"/>
            <a:ext cx="2130120" cy="47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70F90-B033-4AFD-B231-076DA5D0098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