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21754"/>
        <c:axId val="42647180"/>
      </c:barChart>
      <c:catAx>
        <c:axId val="47521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7180"/>
        <c:crosses val="autoZero"/>
        <c:auto val="1"/>
        <c:lblAlgn val="ctr"/>
        <c:lblOffset val="100"/>
        <c:noMultiLvlLbl val="0"/>
      </c:catAx>
      <c:valAx>
        <c:axId val="42647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1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30F-9676-47B9-BD39-95C9A6D5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9A4-A227-410C-AA2A-5122F47D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214-CED3-49B1-BA59-64A0F05B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F92-330B-432D-81AC-37FD9F79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F4C-0ADD-46C2-B4AF-2A47BC1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D24-9880-4500-80B9-4302F26F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A61-E019-4587-99CD-5AA472B6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7D2-36F4-4F93-BB37-F6DAD456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44C-18A6-452A-B032-089CAF47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AEC-869B-41F9-BC44-0E8AB386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2D0-5FED-48CF-B170-7ECB4CED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61B-3DEA-4A2C-B1E7-CCAF6C1D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49A11-F2C1-4FB4-B7FB-693024971E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